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1FFE-0B4A-4C05-910F-48880A29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F001-0449-49C7-8A3D-5DEA9EF3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4BA5-8F99-4656-BDBA-73DA0E6A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E323-970D-46EA-8B95-C9595DD8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71F-4FE3-45B8-B300-50495A90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120-6CEF-44BC-9DDB-12CBFF37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024F-F978-4733-A91F-627317F5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D80-35D0-490D-877E-18A85DD1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7CCC-AAF0-436B-9E11-EFB76843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E27B-9FBC-40A7-B32D-1B0709E1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186-4443-41F8-A754-5F07BA85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45AC-173F-4805-8D7B-10B984DC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F5E1-ABD3-4275-B4D3-022BD3623AA5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42920" y="1125360"/>
            <a:ext cx="71294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haroni"/>
              </a:rPr>
              <a:t>צבע אדום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haroni"/>
              <a:ea typeface="Aharoni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611280" y="5516640"/>
            <a:ext cx="7775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Guttman Yad-Brush"/>
              </a:rPr>
              <a:t>אומר לך משהו?!?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Guttman Yad-Brush"/>
              <a:ea typeface="Guttman Yad-Brus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woman"/>
          <p:cNvPicPr/>
          <p:nvPr/>
        </p:nvPicPr>
        <p:blipFill>
          <a:blip r:embed="rId1"/>
          <a:stretch/>
        </p:blipFill>
        <p:spPr>
          <a:xfrm>
            <a:off x="186516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ezegen"/>
          <p:cNvPicPr/>
          <p:nvPr/>
        </p:nvPicPr>
        <p:blipFill>
          <a:blip r:embed="rId1"/>
          <a:stretch/>
        </p:blipFill>
        <p:spPr>
          <a:xfrm>
            <a:off x="0" y="304920"/>
            <a:ext cx="9448920" cy="941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ugurlar"/>
          <p:cNvPicPr/>
          <p:nvPr/>
        </p:nvPicPr>
        <p:blipFill>
          <a:blip r:embed="rId1"/>
          <a:stretch/>
        </p:blipFill>
        <p:spPr>
          <a:xfrm>
            <a:off x="-457200" y="-422280"/>
            <a:ext cx="10515600" cy="819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kurdele"/>
          <p:cNvPicPr/>
          <p:nvPr/>
        </p:nvPicPr>
        <p:blipFill>
          <a:blip r:embed="rId1"/>
          <a:stretch/>
        </p:blipFill>
        <p:spPr>
          <a:xfrm>
            <a:off x="-533520" y="-380880"/>
            <a:ext cx="10211040" cy="77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1042920" y="1125360"/>
            <a:ext cx="71294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haroni"/>
              </a:rPr>
              <a:t>צבע אדום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haroni"/>
              <a:ea typeface="Aharoni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619280" y="5013360"/>
            <a:ext cx="63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uttman Yad-Brush"/>
              </a:rPr>
              <a:t>בשבילנו זה סתם צבע אדום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uttman Yad-Brush"/>
              <a:ea typeface="Guttman Yad-Brush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042920" y="1125360"/>
            <a:ext cx="71294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haroni"/>
              </a:rPr>
              <a:t>צבע אדום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haroni"/>
              <a:ea typeface="Aharoni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826920" y="4869000"/>
            <a:ext cx="74901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Guttman Yad-Brush"/>
              </a:rPr>
              <a:t>בשבילם זה </a:t>
            </a: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Guttman Yad-Brush"/>
              </a:rPr>
              <a:t>10</a:t>
            </a: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Guttman Yad-Brush"/>
              </a:rPr>
              <a:t> שניות לתפוס מחסה!!!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Guttman Yad-Brush"/>
              <a:ea typeface="Guttman Yad-Brus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"/>
          <p:cNvPicPr/>
          <p:nvPr/>
        </p:nvPicPr>
        <p:blipFill>
          <a:blip r:embed="rId1"/>
          <a:stretch/>
        </p:blipFill>
        <p:spPr>
          <a:xfrm>
            <a:off x="539640" y="549360"/>
            <a:ext cx="2881440" cy="225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4"/>
          <p:cNvPicPr/>
          <p:nvPr/>
        </p:nvPicPr>
        <p:blipFill>
          <a:blip r:embed="rId2"/>
          <a:stretch/>
        </p:blipFill>
        <p:spPr>
          <a:xfrm>
            <a:off x="3780000" y="2781360"/>
            <a:ext cx="4906800" cy="3713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3"/>
          <p:cNvPicPr/>
          <p:nvPr/>
        </p:nvPicPr>
        <p:blipFill>
          <a:blip r:embed="rId1"/>
          <a:stretch/>
        </p:blipFill>
        <p:spPr>
          <a:xfrm>
            <a:off x="1332000" y="538200"/>
            <a:ext cx="6696000" cy="56005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1187280" y="0"/>
            <a:ext cx="69138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+mn-cs"/>
              </a:rPr>
              <a:t>גיבורי שדרות-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+mn-cs"/>
              <a:ea typeface="+mn-cs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+mn-cs"/>
              </a:rPr>
              <a:t>תמיד איתכם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</p:spTree>
  </p:cSld>
  <p:transition spd="slow"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1187280" y="477720"/>
            <a:ext cx="698508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גם אנחנו יכולים לעזור-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להתפלל,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לנסוע לחזק את התושבים,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לשלוח מכתבי עידוד,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להפיץ מייל זה!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21:19:18Z</dcterms:created>
  <dc:creator>מחוז דן</dc:creator>
  <dc:description/>
  <dc:language>en-US</dc:language>
  <cp:lastModifiedBy>נוה חנה</cp:lastModifiedBy>
  <dcterms:modified xsi:type="dcterms:W3CDTF">2009-10-29T09:56:13Z</dcterms:modified>
  <cp:revision>4</cp:revision>
  <dc:subject/>
  <dc:title>שקופית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